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232-CB56-45B7-A97C-9123FFCF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903-1198-472E-A69A-68FC944C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55C-22FE-45F7-BD9C-27FB9262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84D-0566-45C6-8978-DFADEC3F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AFD-9251-440D-B1AD-BDF098C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EC7-7949-4CB1-95FF-C2F2CF65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2BF-7277-44DD-89F5-7D23427C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D2D-BB40-4E27-AB62-F6F6E09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D2B-779E-42E0-9663-04EAFD7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696-25EB-4101-BC0F-CC49178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167-228B-40FE-A104-026EE917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434-4C07-43F2-B579-98EC0D9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62CD-301A-4DD3-B23D-B0C8E5C5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bstract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628640"/>
            <a:ext cx="54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oth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 can’t see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213000"/>
            <a:ext cx="64800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cc0000"/>
                </a:solidFill>
                <a:latin typeface="Arial"/>
              </a:rPr>
              <a:t>abstract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pain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’s hard to SEE what’s in an abstract pain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941720"/>
            <a:ext cx="65516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An emotion or idea.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g:  risk, love, confusion, joy, prejud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8-02-06T23:15:38Z</dcterms:modified>
  <cp:revision>14</cp:revision>
  <dc:subject/>
  <dc:title>Simile</dc:title>
</cp:coreProperties>
</file>